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F881-E575-4613-857F-26213592C6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8E7F-DB2A-481E-838E-CC413DFBA8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4184-0CA3-44F0-AD24-A8383BEC41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10D4-52CF-4D18-A54E-BF9CEB8E7D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190E-75B1-4D00-B551-4D23C9F5C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E2FA-88FA-4C22-A356-8220A5FF0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B48E-D660-4BC5-9442-7E07A238FB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C610-0119-490C-A98B-9F61BB0C44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7331-F295-48A3-A14F-E6073013E7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7D34-CDC9-4FC5-9849-C6B4CBAF06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36B0-E771-4C5D-8539-F88FE239C5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B53F-629A-42B9-947A-C4AA3497A2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7050-B3B3-41C5-AF5B-E66DC1AA22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90FE-4C0A-4A77-BF43-C9054E3FC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E9F9-1154-4BB4-9185-DF92B7FF09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F14D-AEB8-4476-ACDA-F2B57F719F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CD2E-B9F4-49BA-9D82-F025F2A5D5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CF52-9ADF-4254-B06D-046E5F1EC3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B6D2-53B2-44F0-A122-AC0A11F69C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2C55-1164-4A51-8D32-86C85D4BD9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6479-03D7-40D6-B73D-CE10AE645E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2210-7757-48BE-97C7-A01271A13A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F0C1-B846-4060-9BB6-02CF051F15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524C-E36E-4F0D-8634-A1F93B054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A450-0060-4DC8-99C1-7BEB20E73D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9404-9599-4FFD-9192-D8357BAFED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0960-FBBD-4FAC-A93F-80496B9F4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961B-0D2B-4D58-A3A8-67D81215C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8F95-21B9-459C-B417-7B15F347CA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2E2-9E08-49C6-A6FC-7DE82A68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3B6-23EA-412E-A23C-2A679AEE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112C-ECB3-4EFC-83D2-21DA14DD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96D-8D31-45DB-943D-40A655F4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75A5-1A23-44BD-BB3A-EEA8E7AE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CCFA-6CA8-4205-898C-7F146D8E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5BD7-2891-4AAB-8082-49FB0809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BE1F-D4D9-4460-A9AD-C6036CD3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7CD6-C004-44C7-9FA4-CF3B16AF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C22D-C868-41C9-ADC7-451BA66D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F734-0572-4929-840C-BD6E224E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87F-7187-41CE-97C8-F9FF10BC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E7AF-37EF-425B-BA90-F9F663F5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9BF0-3B90-4607-8F33-8E9B34AC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4E05-2EEE-482A-8E55-98B6E95A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C2A7-17A8-46C6-B32C-103C12B1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691B-AA67-437E-940A-B3C3439E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4D52-0398-4DA4-A856-E14CE614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4F04C-59A9-4115-B065-1124EB9A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F62BA-F8F0-428D-9E27-AA2D63DE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92D6A-6A49-4FE3-88BD-1DDAC6F9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5F2A0-A254-4A57-A2F2-358C21F2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0E5-739E-4517-91EC-FFC636EB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D8D5E-9B1C-40F8-A1A5-53E1CB70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67DE1-BDC1-45D6-8221-AFCE188E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F4B4D-7C59-4D10-8B15-8A70EC8B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B605B-0184-4DA0-8104-E758B138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BF1BE-A4D4-44E9-AA1A-B509EAA1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771BB-89A3-4E42-A51E-0034F03B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3B68D-F0E7-48CB-A939-AD96BD09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3B338-6C3B-4940-8B68-83BEB4A2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4C184-9FA9-443C-9E81-9E3F5E4F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46C9C-C239-4BA0-B898-142463CE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5D75-E70E-4F2D-85A9-9EF8BF34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370F4-95F3-400D-BDCA-2F95D9FA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E8D6D-A32F-4183-9FF3-4316D1F1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DE1D1-E8FF-4556-9BB7-D0B5D88E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AB3F6-46FC-43F1-8E17-192307CF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05342-F8BF-41CE-9B01-5D3502E8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D84E3-27AD-4BE2-9555-13C85E20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A3EEE-1BF9-4EC1-8957-081548F1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D9DA0-D918-4C4B-BF7A-6F445218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6063A-1D86-42F1-BAE4-E59B8592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D8807-0B51-4513-AA5A-8D4A32FD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92E-8D48-4602-BAED-63D07111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11193-56DF-4980-9689-0E4D406E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62AAB-FDC3-46F0-A461-E63BC068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FFBA3-FDB0-4C2F-BBEC-A099E990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2D28B-0D25-4C65-BE99-C011D70B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25571-AA99-4772-AF38-F1B43417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8D581-A80E-4563-8E30-8AFBA48D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C58D8-C2AC-44F0-AAD7-81EECE38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46884-626B-41FC-80B0-A1F7DCEB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FF062-71F4-45C8-BF48-56B5DDA1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0985C-8768-46D9-B8BC-0DDD4F1D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EBA-AAAA-4468-95EA-04AD0C12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6CB2B-203B-41A0-BC56-1A846DC6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3CD1B-DB28-45E3-B8CB-8EB7BF43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F2F0A-29E5-463E-A72D-E9A2271A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20FAB-E610-4037-8666-093C21FE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5F70A-9AD5-47C0-BEA2-A0C04129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0C18F-2AC3-4FF8-892F-5A55EB43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62B3D-2E9A-4BF7-A1B9-1CB49D8F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F17CD-CA21-4C0B-9D97-899115C1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FE0FB-B914-4E6F-B1EA-8FCB159E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8132B-0167-4145-826C-CEDAB0D5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887-9FFF-41A3-9F02-BC9B1357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422D2-C61B-4C59-8EA6-AF4456F4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8A642-AA52-44DF-B987-3819FB83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D5620-E54D-46C4-92D3-323D90AE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DB3F2-6DEB-4D79-B11C-6318B26C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A8289-FB6B-4D8C-982E-404BCCC2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A9BF-F1AE-433D-A85C-B6023141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B5BE4-B4A5-4A77-B031-935C07A4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FCB59-6D07-4D41-91DA-8E4B05FF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6CA72-1E19-44D8-B0D5-467E292A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A943C-3784-41E6-B9E8-5988FF79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45F-6C1A-4B28-8E54-3BFFD39D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6D38B-F12D-446E-8AA8-3A4A2C65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0704D-3732-4C95-A264-B2BA885C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D6B48-FFA0-47D3-8C49-F5A939C8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5C849-E8C9-4B46-AC9E-E73F279C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30355-A728-4D68-B143-D733273C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5F5-B758-42D9-A3C2-5ACA88A9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3800-8122-4611-A7BA-C70BB80209B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B5C5-90EE-4335-8A17-ADE275CAB27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F883-C3CD-43ED-B22F-C817C795467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6893-D0DF-4DBB-BE5D-6F08925222B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BE99-0969-4C5B-B91F-0E5C9D743E5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943A-8675-469D-A738-7E8A6DEAC0D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3F87-0BC2-49B7-8548-F4DEB5BEB1F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23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8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-316440"/>
            <a:ext cx="7407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ТВОРЧЕСКИЕ  ЗАДАН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1640" y="1773360"/>
            <a:ext cx="4195800" cy="2303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orbel"/>
              </a:rPr>
              <a:t>Составитель:                                         преподаватель                                                                                                                             МБУ ДО «Нюксенская ДМШ»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orbel"/>
              </a:rPr>
              <a:t>Демина Светлана Гурьевн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885080" y="566100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475a8d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Улыбающееся лицо 5"/>
          <p:cNvSpPr/>
          <p:nvPr/>
        </p:nvSpPr>
        <p:spPr>
          <a:xfrm>
            <a:off x="147636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3891a7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Улыбающееся лицо 8"/>
          <p:cNvSpPr/>
          <p:nvPr/>
        </p:nvSpPr>
        <p:spPr>
          <a:xfrm>
            <a:off x="8101080" y="1052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Улыбающееся лицо 10"/>
          <p:cNvSpPr/>
          <p:nvPr/>
        </p:nvSpPr>
        <p:spPr>
          <a:xfrm>
            <a:off x="1403280" y="18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84aa3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Улыбающееся лицо 29"/>
          <p:cNvGrpSpPr/>
          <p:nvPr/>
        </p:nvGrpSpPr>
        <p:grpSpPr>
          <a:xfrm>
            <a:off x="4492800" y="1859040"/>
            <a:ext cx="1072800" cy="1073160"/>
            <a:chOff x="4492800" y="1859040"/>
            <a:chExt cx="1072800" cy="1073160"/>
          </a:xfrm>
        </p:grpSpPr>
        <p:pic>
          <p:nvPicPr>
            <p:cNvPr id="332" name="Улыбающееся лицо 29" descr=""/>
            <p:cNvPicPr/>
            <p:nvPr/>
          </p:nvPicPr>
          <p:blipFill>
            <a:blip r:embed="rId1"/>
            <a:stretch/>
          </p:blipFill>
          <p:spPr>
            <a:xfrm>
              <a:off x="4492800" y="1859040"/>
              <a:ext cx="1072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705200" y="2050920"/>
              <a:ext cx="6480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Улыбающееся лицо 30"/>
          <p:cNvSpPr/>
          <p:nvPr/>
        </p:nvSpPr>
        <p:spPr>
          <a:xfrm>
            <a:off x="3995640" y="501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64305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Улыбающееся лицо 31"/>
          <p:cNvSpPr/>
          <p:nvPr/>
        </p:nvSpPr>
        <p:spPr>
          <a:xfrm>
            <a:off x="7236000" y="3933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Солнце 5"/>
          <p:cNvSpPr/>
          <p:nvPr/>
        </p:nvSpPr>
        <p:spPr>
          <a:xfrm>
            <a:off x="3348000" y="1557360"/>
            <a:ext cx="2930400" cy="2808360"/>
          </a:xfrm>
          <a:prstGeom prst="sun">
            <a:avLst>
              <a:gd name="adj" fmla="val 25000"/>
            </a:avLst>
          </a:prstGeom>
          <a:solidFill>
            <a:srgbClr val="feb80a"/>
          </a:solidFill>
          <a:ln w="9360">
            <a:solidFill>
              <a:srgbClr val="2a6d7d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Управляющая кнопка: далее 6"/>
          <p:cNvGrpSpPr/>
          <p:nvPr/>
        </p:nvGrpSpPr>
        <p:grpSpPr>
          <a:xfrm>
            <a:off x="7589880" y="5029200"/>
            <a:ext cx="1200240" cy="1200240"/>
            <a:chOff x="7589880" y="5029200"/>
            <a:chExt cx="1200240" cy="1200240"/>
          </a:xfrm>
        </p:grpSpPr>
        <p:pic>
          <p:nvPicPr>
            <p:cNvPr id="392" name="Управляющая кнопка: далее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89880" y="5029200"/>
              <a:ext cx="12002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7667640" y="5084640"/>
              <a:ext cx="1042920" cy="10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-316080"/>
            <a:ext cx="74995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 u="sng">
              <a:solidFill>
                <a:srgbClr val="000000"/>
              </a:solidFill>
              <a:uFillTx/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052280"/>
            <a:ext cx="7499520" cy="51958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b0f0"/>
                </a:solidFill>
                <a:latin typeface="Corbel"/>
              </a:rPr>
              <a:t>Придумай и запиши слова 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b0f0"/>
                </a:solidFill>
                <a:latin typeface="Corbel"/>
              </a:rPr>
              <a:t>с названием нот.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ДО…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orbel"/>
              </a:rPr>
              <a:t>РЕ…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rbel"/>
              </a:rPr>
              <a:t>МИ…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rbel"/>
              </a:rPr>
              <a:t>ФА…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orbel"/>
              </a:rPr>
              <a:t>СОЛЬ…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a8d"/>
                </a:solidFill>
                <a:latin typeface="Corbel"/>
              </a:rPr>
              <a:t>ЛЯ…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rbel"/>
              </a:rPr>
              <a:t>СИ…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812000" y="5157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faae7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5436a"/>
                </a:solidFill>
                <a:latin typeface="Corbel"/>
              </a:rPr>
              <a:t>Молодец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sp>
        <p:nvSpPr>
          <p:cNvPr id="399" name="Солнце 4"/>
          <p:cNvSpPr/>
          <p:nvPr/>
        </p:nvSpPr>
        <p:spPr>
          <a:xfrm>
            <a:off x="3564000" y="1341360"/>
            <a:ext cx="2952720" cy="2808360"/>
          </a:xfrm>
          <a:prstGeom prst="sun">
            <a:avLst>
              <a:gd name="adj" fmla="val 25000"/>
            </a:avLst>
          </a:prstGeom>
          <a:solidFill>
            <a:srgbClr val="faae7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Управляющая кнопка: далее 5"/>
          <p:cNvGrpSpPr/>
          <p:nvPr/>
        </p:nvGrpSpPr>
        <p:grpSpPr>
          <a:xfrm>
            <a:off x="7589880" y="5029200"/>
            <a:ext cx="1200240" cy="1200240"/>
            <a:chOff x="7589880" y="5029200"/>
            <a:chExt cx="1200240" cy="1200240"/>
          </a:xfrm>
        </p:grpSpPr>
        <p:pic>
          <p:nvPicPr>
            <p:cNvPr id="401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589880" y="5029200"/>
              <a:ext cx="12002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7667640" y="5084640"/>
              <a:ext cx="1042920" cy="10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900"/>
            </a:br>
            <a:r>
              <a:rPr b="0" lang="ru-RU" sz="3900" spc="-1" strike="noStrike">
                <a:solidFill>
                  <a:srgbClr val="6db2c9"/>
                </a:solidFill>
                <a:latin typeface="Corbel"/>
              </a:rPr>
              <a:t>Какое ещё название имеет скрипичный ключ?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ЮЧ «ФА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ЮЧ «ДО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ЮЧ «СОЛЬ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Управляющая кнопка: далее 8">
            <a:hlinkClick r:id="rId1" action="ppaction://hlinksldjump"/>
          </p:cNvPr>
          <p:cNvSpPr/>
          <p:nvPr/>
        </p:nvSpPr>
        <p:spPr>
          <a:xfrm>
            <a:off x="4643280" y="2637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Управляющая кнопка: далее 9">
            <a:hlinkClick r:id="rId2" action="ppaction://hlinksldjump"/>
          </p:cNvPr>
          <p:cNvSpPr/>
          <p:nvPr/>
        </p:nvSpPr>
        <p:spPr>
          <a:xfrm>
            <a:off x="4643280" y="3645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Управляющая кнопка: далее 10">
            <a:hlinkClick r:id="rId3" action="ppaction://hlinksldjump"/>
          </p:cNvPr>
          <p:cNvSpPr/>
          <p:nvPr/>
        </p:nvSpPr>
        <p:spPr>
          <a:xfrm>
            <a:off x="4643280" y="4724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4aa3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885080" y="5589720"/>
            <a:ext cx="1041480" cy="10411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1120"/>
              <a:gd name="textAreaBottom" fmla="*/ 973800 h 10411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7ec3d4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УМАЙ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Облако 3"/>
          <p:cNvSpPr/>
          <p:nvPr/>
        </p:nvSpPr>
        <p:spPr>
          <a:xfrm>
            <a:off x="4211640" y="1628640"/>
            <a:ext cx="2592360" cy="2448000"/>
          </a:xfrm>
          <a:custGeom>
            <a:avLst/>
            <a:gdLst>
              <a:gd name="textAreaLeft" fmla="*/ 357120 w 2592360"/>
              <a:gd name="textAreaRight" fmla="*/ 2050920 w 2592360"/>
              <a:gd name="textAreaTop" fmla="*/ 369720 h 2448000"/>
              <a:gd name="textAreaBottom" fmla="*/ 1964880 h 2448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b9d77a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Управляющая кнопка: назад 6"/>
          <p:cNvGrpSpPr/>
          <p:nvPr/>
        </p:nvGrpSpPr>
        <p:grpSpPr>
          <a:xfrm>
            <a:off x="7736040" y="5102280"/>
            <a:ext cx="1199880" cy="1201680"/>
            <a:chOff x="7736040" y="5102280"/>
            <a:chExt cx="1199880" cy="1201680"/>
          </a:xfrm>
        </p:grpSpPr>
        <p:pic>
          <p:nvPicPr>
            <p:cNvPr id="413" name="Управляющая кнопка: назад 6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736040" y="5102280"/>
              <a:ext cx="11998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7812000" y="5157720"/>
              <a:ext cx="104292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Солнце 5"/>
          <p:cNvSpPr/>
          <p:nvPr/>
        </p:nvSpPr>
        <p:spPr>
          <a:xfrm>
            <a:off x="3708360" y="1700280"/>
            <a:ext cx="2930400" cy="2808360"/>
          </a:xfrm>
          <a:prstGeom prst="sun">
            <a:avLst>
              <a:gd name="adj" fmla="val 25000"/>
            </a:avLst>
          </a:pr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Управляющая кнопка: далее 6">
            <a:hlinkClick r:id="rId1" action="ppaction://hlinksldjump"/>
          </p:cNvPr>
          <p:cNvSpPr/>
          <p:nvPr/>
        </p:nvSpPr>
        <p:spPr>
          <a:xfrm>
            <a:off x="7812000" y="5157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d0e4a6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3891a7"/>
                </a:solidFill>
                <a:latin typeface="Corbel"/>
              </a:rPr>
              <a:t>На какой строчке нотного стана строится нота «си»?</a:t>
            </a:r>
            <a:r>
              <a:rPr b="0" lang="ru-RU" sz="39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434960" y="2205000"/>
            <a:ext cx="749952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ПЕРВ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ВТОР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ТРЕТЬЕ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Управляющая кнопка: далее 8">
            <a:hlinkClick r:id="rId1" action="ppaction://hlinksldjump"/>
          </p:cNvPr>
          <p:cNvSpPr/>
          <p:nvPr/>
        </p:nvSpPr>
        <p:spPr>
          <a:xfrm>
            <a:off x="4643280" y="2637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Управляющая кнопка: далее 9">
            <a:hlinkClick r:id="rId2" action="ppaction://hlinksldjump"/>
          </p:cNvPr>
          <p:cNvSpPr/>
          <p:nvPr/>
        </p:nvSpPr>
        <p:spPr>
          <a:xfrm>
            <a:off x="4643280" y="3645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Управляющая кнопка: далее 10">
            <a:hlinkClick r:id="rId3" action="ppaction://hlinksldjump"/>
          </p:cNvPr>
          <p:cNvSpPr/>
          <p:nvPr/>
        </p:nvSpPr>
        <p:spPr>
          <a:xfrm>
            <a:off x="4643280" y="4724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4aa3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Управляющая кнопка: далее 12"/>
          <p:cNvGrpSpPr/>
          <p:nvPr/>
        </p:nvGrpSpPr>
        <p:grpSpPr>
          <a:xfrm>
            <a:off x="7802640" y="5535720"/>
            <a:ext cx="1201680" cy="1199880"/>
            <a:chOff x="7802640" y="5535720"/>
            <a:chExt cx="1201680" cy="1199880"/>
          </a:xfrm>
        </p:grpSpPr>
        <p:pic>
          <p:nvPicPr>
            <p:cNvPr id="425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802640" y="5535720"/>
              <a:ext cx="120168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7885080" y="5589720"/>
              <a:ext cx="104148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УМАЙ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Облако 3"/>
          <p:cNvSpPr/>
          <p:nvPr/>
        </p:nvSpPr>
        <p:spPr>
          <a:xfrm>
            <a:off x="4211640" y="1628640"/>
            <a:ext cx="2592360" cy="2448000"/>
          </a:xfrm>
          <a:custGeom>
            <a:avLst/>
            <a:gdLst>
              <a:gd name="textAreaLeft" fmla="*/ 357120 w 2592360"/>
              <a:gd name="textAreaRight" fmla="*/ 2050920 w 2592360"/>
              <a:gd name="textAreaTop" fmla="*/ 369720 h 2448000"/>
              <a:gd name="textAreaBottom" fmla="*/ 1964880 h 2448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6b07e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Управляющая кнопка: назад 6"/>
          <p:cNvGrpSpPr/>
          <p:nvPr/>
        </p:nvGrpSpPr>
        <p:grpSpPr>
          <a:xfrm>
            <a:off x="7802640" y="5175360"/>
            <a:ext cx="1201680" cy="1201680"/>
            <a:chOff x="7802640" y="5175360"/>
            <a:chExt cx="1201680" cy="1201680"/>
          </a:xfrm>
        </p:grpSpPr>
        <p:pic>
          <p:nvPicPr>
            <p:cNvPr id="431" name="Управляющая кнопка: назад 6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802640" y="5175360"/>
              <a:ext cx="12016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7885080" y="5229360"/>
              <a:ext cx="104148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Солнце 5"/>
          <p:cNvSpPr/>
          <p:nvPr/>
        </p:nvSpPr>
        <p:spPr>
          <a:xfrm>
            <a:off x="3348000" y="1557360"/>
            <a:ext cx="2930400" cy="2808360"/>
          </a:xfrm>
          <a:prstGeom prst="sun">
            <a:avLst>
              <a:gd name="adj" fmla="val 25000"/>
            </a:avLst>
          </a:prstGeom>
          <a:solidFill>
            <a:srgbClr val="e17b7c"/>
          </a:solidFill>
          <a:ln w="255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Управляющая кнопка: далее 6">
            <a:hlinkClick r:id="rId1" action="ppaction://hlinksldjump"/>
          </p:cNvPr>
          <p:cNvSpPr/>
          <p:nvPr/>
        </p:nvSpPr>
        <p:spPr>
          <a:xfrm>
            <a:off x="7740720" y="5084640"/>
            <a:ext cx="1041480" cy="10432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3812"/>
                </a:moveTo>
                <a:lnTo>
                  <a:pt x="17806" y="10819"/>
                </a:lnTo>
                <a:lnTo>
                  <a:pt x="3794" y="17825"/>
                </a:lnTo>
                <a:close/>
              </a:path>
            </a:pathLst>
          </a:custGeom>
          <a:solidFill>
            <a:srgbClr val="b0bad7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-531720"/>
            <a:ext cx="74995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 u="sng">
              <a:solidFill>
                <a:srgbClr val="000000"/>
              </a:solidFill>
              <a:uFillTx/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042560" y="549000"/>
            <a:ext cx="7891560" cy="61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6d7d"/>
                </a:solidFill>
                <a:latin typeface="Corbel"/>
              </a:rPr>
              <a:t>Соедини стрелочками назв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6d7d"/>
                </a:solidFill>
                <a:latin typeface="Corbel"/>
              </a:rPr>
              <a:t>музыкальных терминов с и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6d7d"/>
                </a:solidFill>
                <a:latin typeface="Corbel"/>
              </a:rPr>
              <a:t>обозначения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1258920" y="328464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ИА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5"/>
          <p:cNvSpPr/>
          <p:nvPr/>
        </p:nvSpPr>
        <p:spPr>
          <a:xfrm>
            <a:off x="1258920" y="4292640"/>
            <a:ext cx="86508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РЕПР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6"/>
          <p:cNvSpPr/>
          <p:nvPr/>
        </p:nvSpPr>
        <p:spPr>
          <a:xfrm>
            <a:off x="1258920" y="5300640"/>
            <a:ext cx="86508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Л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7"/>
          <p:cNvSpPr/>
          <p:nvPr/>
        </p:nvSpPr>
        <p:spPr>
          <a:xfrm>
            <a:off x="1258920" y="22050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ЛЕГА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8"/>
          <p:cNvSpPr/>
          <p:nvPr/>
        </p:nvSpPr>
        <p:spPr>
          <a:xfrm>
            <a:off x="4859280" y="2276640"/>
            <a:ext cx="9144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9"/>
          <p:cNvSpPr/>
          <p:nvPr/>
        </p:nvSpPr>
        <p:spPr>
          <a:xfrm>
            <a:off x="4859280" y="3213000"/>
            <a:ext cx="91440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10"/>
          <p:cNvSpPr/>
          <p:nvPr/>
        </p:nvSpPr>
        <p:spPr>
          <a:xfrm>
            <a:off x="4859280" y="4221000"/>
            <a:ext cx="91440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11"/>
          <p:cNvSpPr/>
          <p:nvPr/>
        </p:nvSpPr>
        <p:spPr>
          <a:xfrm>
            <a:off x="4859280" y="52293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Месяц 16"/>
          <p:cNvSpPr/>
          <p:nvPr/>
        </p:nvSpPr>
        <p:spPr>
          <a:xfrm rot="5400000">
            <a:off x="5281200" y="5311800"/>
            <a:ext cx="142920" cy="69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Равно 17"/>
          <p:cNvSpPr/>
          <p:nvPr/>
        </p:nvSpPr>
        <p:spPr>
          <a:xfrm rot="16200000">
            <a:off x="4806000" y="3410280"/>
            <a:ext cx="755640" cy="503280"/>
          </a:xfrm>
          <a:custGeom>
            <a:avLst/>
            <a:gdLst>
              <a:gd name="textAreaLeft" fmla="*/ 100080 w 755640"/>
              <a:gd name="textAreaRight" fmla="*/ 655560 w 755640"/>
              <a:gd name="textAreaTop" fmla="*/ 103680 h 503280"/>
              <a:gd name="textAreaBottom" fmla="*/ 399600 h 503280"/>
            </a:gdLst>
            <a:ahLst/>
            <a:rect l="textAreaLeft" t="textAreaTop" r="textAreaRight" b="textAreaBottom"/>
            <a:pathLst>
              <a:path w="755650" h="503237">
                <a:moveTo>
                  <a:pt x="100161" y="103667"/>
                </a:moveTo>
                <a:lnTo>
                  <a:pt x="655489" y="103667"/>
                </a:lnTo>
                <a:lnTo>
                  <a:pt x="655489" y="222028"/>
                </a:lnTo>
                <a:lnTo>
                  <a:pt x="100161" y="222028"/>
                </a:lnTo>
                <a:close/>
                <a:moveTo>
                  <a:pt x="100161" y="281209"/>
                </a:moveTo>
                <a:lnTo>
                  <a:pt x="655489" y="281209"/>
                </a:lnTo>
                <a:lnTo>
                  <a:pt x="655489" y="399570"/>
                </a:lnTo>
                <a:lnTo>
                  <a:pt x="100161" y="39957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олилиния 18"/>
          <p:cNvSpPr/>
          <p:nvPr/>
        </p:nvSpPr>
        <p:spPr>
          <a:xfrm>
            <a:off x="5429160" y="4114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Блок-схема: узел 27"/>
          <p:cNvSpPr/>
          <p:nvPr/>
        </p:nvSpPr>
        <p:spPr>
          <a:xfrm>
            <a:off x="5508720" y="3789360"/>
            <a:ext cx="215640" cy="2160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Блок-схема: узел 29"/>
          <p:cNvSpPr/>
          <p:nvPr/>
        </p:nvSpPr>
        <p:spPr>
          <a:xfrm>
            <a:off x="5508720" y="3429000"/>
            <a:ext cx="215640" cy="2160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Блок-схема: узел 30"/>
          <p:cNvSpPr/>
          <p:nvPr/>
        </p:nvSpPr>
        <p:spPr>
          <a:xfrm>
            <a:off x="5003640" y="4508640"/>
            <a:ext cx="648000" cy="3603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Управляющая кнопка: далее 19"/>
          <p:cNvGrpSpPr/>
          <p:nvPr/>
        </p:nvGrpSpPr>
        <p:grpSpPr>
          <a:xfrm>
            <a:off x="7736040" y="5535720"/>
            <a:ext cx="1199880" cy="1199880"/>
            <a:chOff x="7736040" y="5535720"/>
            <a:chExt cx="1199880" cy="1199880"/>
          </a:xfrm>
        </p:grpSpPr>
        <p:pic>
          <p:nvPicPr>
            <p:cNvPr id="454" name="Управляющая кнопка: далее 19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36040" y="5535720"/>
              <a:ext cx="119988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781200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7ec3d4"/>
                </a:solidFill>
                <a:latin typeface="Corbel"/>
              </a:rPr>
              <a:t>Сколько нот в гамме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02920" y="-171360"/>
            <a:ext cx="793116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Управляющая кнопка: далее 32">
            <a:hlinkClick r:id="rId1" action="ppaction://hlinksldjump"/>
          </p:cNvPr>
          <p:cNvSpPr/>
          <p:nvPr/>
        </p:nvSpPr>
        <p:spPr>
          <a:xfrm>
            <a:off x="3203640" y="234936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Управляющая кнопка: далее 33">
            <a:hlinkClick r:id="rId2" action="ppaction://hlinksldjump"/>
          </p:cNvPr>
          <p:cNvSpPr/>
          <p:nvPr/>
        </p:nvSpPr>
        <p:spPr>
          <a:xfrm>
            <a:off x="3203640" y="3357720"/>
            <a:ext cx="1042920" cy="10411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120"/>
              <a:gd name="textAreaBottom" fmla="*/ 973800 h 1041120"/>
            </a:gdLst>
            <a:ahLst/>
            <a:rect l="textAreaLeft" t="textAreaTop" r="textAreaRight" b="textAreaBottom"/>
            <a:pathLst>
              <a:path w="21637" h="21600">
                <a:moveTo>
                  <a:pt x="0" y="0"/>
                </a:moveTo>
                <a:lnTo>
                  <a:pt x="21637" y="0"/>
                </a:lnTo>
                <a:lnTo>
                  <a:pt x="21637" y="21600"/>
                </a:lnTo>
                <a:lnTo>
                  <a:pt x="0" y="21600"/>
                </a:lnTo>
                <a:close/>
              </a:path>
              <a:path fill="lightenLess" w="21637" h="21600">
                <a:moveTo>
                  <a:pt x="0" y="0"/>
                </a:moveTo>
                <a:lnTo>
                  <a:pt x="21637" y="0"/>
                </a:lnTo>
                <a:lnTo>
                  <a:pt x="20237" y="1400"/>
                </a:lnTo>
                <a:lnTo>
                  <a:pt x="1400" y="1400"/>
                </a:lnTo>
                <a:close/>
              </a:path>
              <a:path fill="darken" w="21637" h="21600">
                <a:moveTo>
                  <a:pt x="21637" y="0"/>
                </a:moveTo>
                <a:lnTo>
                  <a:pt x="21637" y="21600"/>
                </a:lnTo>
                <a:lnTo>
                  <a:pt x="20237" y="20200"/>
                </a:lnTo>
                <a:lnTo>
                  <a:pt x="20237" y="1400"/>
                </a:lnTo>
                <a:close/>
              </a:path>
              <a:path fill="darkenLess" w="21637" h="21600">
                <a:moveTo>
                  <a:pt x="21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7" y="20200"/>
                </a:lnTo>
                <a:close/>
              </a:path>
              <a:path fill="lighten" w="21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7" h="21600">
                <a:moveTo>
                  <a:pt x="3812" y="3794"/>
                </a:moveTo>
                <a:lnTo>
                  <a:pt x="17825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Управляющая кнопка: далее 34">
            <a:hlinkClick r:id="rId3" action="ppaction://hlinksldjump"/>
          </p:cNvPr>
          <p:cNvSpPr/>
          <p:nvPr/>
        </p:nvSpPr>
        <p:spPr>
          <a:xfrm>
            <a:off x="3203640" y="4365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84aa3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Управляющая кнопка: далее 36"/>
          <p:cNvGrpSpPr/>
          <p:nvPr/>
        </p:nvGrpSpPr>
        <p:grpSpPr>
          <a:xfrm>
            <a:off x="7736040" y="5761080"/>
            <a:ext cx="1199880" cy="1200240"/>
            <a:chOff x="7736040" y="5761080"/>
            <a:chExt cx="1199880" cy="1200240"/>
          </a:xfrm>
        </p:grpSpPr>
        <p:pic>
          <p:nvPicPr>
            <p:cNvPr id="342" name="Управляющая кнопка: далее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36040" y="5761080"/>
              <a:ext cx="119988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7812000" y="581508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sp>
        <p:nvSpPr>
          <p:cNvPr id="458" name="Солнце 3"/>
          <p:cNvSpPr/>
          <p:nvPr/>
        </p:nvSpPr>
        <p:spPr>
          <a:xfrm>
            <a:off x="3708360" y="1484280"/>
            <a:ext cx="2808360" cy="2449440"/>
          </a:xfrm>
          <a:prstGeom prst="sun">
            <a:avLst>
              <a:gd name="adj" fmla="val 25000"/>
            </a:avLst>
          </a:prstGeom>
          <a:solidFill>
            <a:srgbClr val="f88631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Управляющая кнопка: далее 4"/>
          <p:cNvGrpSpPr/>
          <p:nvPr/>
        </p:nvGrpSpPr>
        <p:grpSpPr>
          <a:xfrm>
            <a:off x="7662960" y="5029200"/>
            <a:ext cx="1199880" cy="1200240"/>
            <a:chOff x="7662960" y="5029200"/>
            <a:chExt cx="1199880" cy="1200240"/>
          </a:xfrm>
        </p:grpSpPr>
        <p:pic>
          <p:nvPicPr>
            <p:cNvPr id="460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662960" y="5029200"/>
              <a:ext cx="119988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740720" y="5084640"/>
              <a:ext cx="1041480" cy="10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6db2c9"/>
                </a:solidFill>
                <a:latin typeface="Corbel"/>
              </a:rPr>
              <a:t>В каком музыкальном размере пишется танец вальс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/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/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/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Управляющая кнопка: далее 8">
            <a:hlinkClick r:id="rId1" action="ppaction://hlinksldjump"/>
          </p:cNvPr>
          <p:cNvSpPr/>
          <p:nvPr/>
        </p:nvSpPr>
        <p:spPr>
          <a:xfrm>
            <a:off x="2916360" y="2565360"/>
            <a:ext cx="1041120" cy="1041480"/>
          </a:xfrm>
          <a:custGeom>
            <a:avLst/>
            <a:gdLst>
              <a:gd name="textAreaLeft" fmla="*/ 67320 w 1041120"/>
              <a:gd name="textAreaRight" fmla="*/ 973800 w 10411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Управляющая кнопка: далее 9">
            <a:hlinkClick r:id="rId2" action="ppaction://hlinksldjump"/>
          </p:cNvPr>
          <p:cNvSpPr/>
          <p:nvPr/>
        </p:nvSpPr>
        <p:spPr>
          <a:xfrm>
            <a:off x="2916360" y="3645000"/>
            <a:ext cx="1041120" cy="1042920"/>
          </a:xfrm>
          <a:custGeom>
            <a:avLst/>
            <a:gdLst>
              <a:gd name="textAreaLeft" fmla="*/ 67320 w 1041120"/>
              <a:gd name="textAreaRight" fmla="*/ 973800 w 10411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3812"/>
                </a:moveTo>
                <a:lnTo>
                  <a:pt x="17806" y="10819"/>
                </a:lnTo>
                <a:lnTo>
                  <a:pt x="3794" y="17825"/>
                </a:lnTo>
                <a:close/>
              </a:path>
            </a:pathLst>
          </a:cu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Управляющая кнопка: далее 10">
            <a:hlinkClick r:id="rId3" action="ppaction://hlinksldjump"/>
          </p:cNvPr>
          <p:cNvSpPr/>
          <p:nvPr/>
        </p:nvSpPr>
        <p:spPr>
          <a:xfrm>
            <a:off x="2916360" y="4724280"/>
            <a:ext cx="1041120" cy="1043280"/>
          </a:xfrm>
          <a:custGeom>
            <a:avLst/>
            <a:gdLst>
              <a:gd name="textAreaLeft" fmla="*/ 67320 w 1041120"/>
              <a:gd name="textAreaRight" fmla="*/ 973800 w 10411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45">
                <a:moveTo>
                  <a:pt x="0" y="0"/>
                </a:moveTo>
                <a:lnTo>
                  <a:pt x="21600" y="0"/>
                </a:lnTo>
                <a:lnTo>
                  <a:pt x="21600" y="21645"/>
                </a:lnTo>
                <a:lnTo>
                  <a:pt x="0" y="21645"/>
                </a:lnTo>
                <a:close/>
              </a:path>
              <a:path fill="lightenLess" w="21600" h="216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5">
                <a:moveTo>
                  <a:pt x="21600" y="0"/>
                </a:moveTo>
                <a:lnTo>
                  <a:pt x="21600" y="21645"/>
                </a:lnTo>
                <a:lnTo>
                  <a:pt x="20200" y="20245"/>
                </a:lnTo>
                <a:lnTo>
                  <a:pt x="20200" y="1400"/>
                </a:lnTo>
                <a:close/>
              </a:path>
              <a:path fill="darkenLess" w="21600" h="21645">
                <a:moveTo>
                  <a:pt x="21600" y="21645"/>
                </a:moveTo>
                <a:lnTo>
                  <a:pt x="0" y="21645"/>
                </a:lnTo>
                <a:lnTo>
                  <a:pt x="1400" y="20245"/>
                </a:lnTo>
                <a:lnTo>
                  <a:pt x="20200" y="20245"/>
                </a:lnTo>
                <a:close/>
              </a:path>
              <a:path fill="lighten" w="21600" h="21645">
                <a:moveTo>
                  <a:pt x="0" y="216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5"/>
                </a:lnTo>
                <a:close/>
              </a:path>
              <a:path fill="darken" w="21600" h="21645">
                <a:moveTo>
                  <a:pt x="3794" y="3816"/>
                </a:moveTo>
                <a:lnTo>
                  <a:pt x="17806" y="10822"/>
                </a:lnTo>
                <a:lnTo>
                  <a:pt x="3794" y="17829"/>
                </a:lnTo>
                <a:close/>
              </a:path>
            </a:pathLst>
          </a:custGeom>
          <a:solidFill>
            <a:srgbClr val="84aa3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Управляющая кнопка: далее 12"/>
          <p:cNvGrpSpPr/>
          <p:nvPr/>
        </p:nvGrpSpPr>
        <p:grpSpPr>
          <a:xfrm>
            <a:off x="7736040" y="5535720"/>
            <a:ext cx="1199880" cy="1199880"/>
            <a:chOff x="7736040" y="5535720"/>
            <a:chExt cx="1199880" cy="1199880"/>
          </a:xfrm>
        </p:grpSpPr>
        <p:pic>
          <p:nvPicPr>
            <p:cNvPr id="468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36040" y="5535720"/>
              <a:ext cx="119988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7812000" y="5589720"/>
              <a:ext cx="10429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УМАЙ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72" name="Облако 3"/>
          <p:cNvGrpSpPr/>
          <p:nvPr/>
        </p:nvGrpSpPr>
        <p:grpSpPr>
          <a:xfrm>
            <a:off x="4133880" y="1579680"/>
            <a:ext cx="2747880" cy="2614320"/>
            <a:chOff x="4133880" y="1579680"/>
            <a:chExt cx="2747880" cy="2614320"/>
          </a:xfrm>
        </p:grpSpPr>
        <p:pic>
          <p:nvPicPr>
            <p:cNvPr id="473" name="Облако 3" descr=""/>
            <p:cNvPicPr/>
            <p:nvPr/>
          </p:nvPicPr>
          <p:blipFill>
            <a:blip r:embed="rId1"/>
            <a:stretch/>
          </p:blipFill>
          <p:spPr>
            <a:xfrm>
              <a:off x="4133880" y="1579680"/>
              <a:ext cx="274788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4568760" y="1998720"/>
              <a:ext cx="1693800" cy="15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812000" y="5157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10800"/>
                </a:moveTo>
                <a:lnTo>
                  <a:pt x="17821" y="3794"/>
                </a:lnTo>
                <a:lnTo>
                  <a:pt x="17821" y="17806"/>
                </a:lnTo>
                <a:close/>
              </a:path>
            </a:pathLst>
          </a:cu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8" name="Солнце 5" descr=""/>
          <p:cNvPicPr/>
          <p:nvPr/>
        </p:nvPicPr>
        <p:blipFill>
          <a:blip r:embed="rId1"/>
          <a:stretch/>
        </p:blipFill>
        <p:spPr>
          <a:xfrm>
            <a:off x="3243240" y="1481040"/>
            <a:ext cx="3133800" cy="3005280"/>
          </a:xfrm>
          <a:prstGeom prst="rect">
            <a:avLst/>
          </a:prstGeom>
          <a:ln w="0">
            <a:noFill/>
          </a:ln>
        </p:spPr>
      </p:pic>
      <p:sp>
        <p:nvSpPr>
          <p:cNvPr id="479" name="Управляющая кнопка: далее 6">
            <a:hlinkClick r:id="rId2" action="ppaction://hlinksldjump"/>
          </p:cNvPr>
          <p:cNvSpPr/>
          <p:nvPr/>
        </p:nvSpPr>
        <p:spPr>
          <a:xfrm>
            <a:off x="7812000" y="5157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b9d7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6db2c9"/>
                </a:solidFill>
                <a:latin typeface="Corbel"/>
              </a:rPr>
              <a:t>Как называется шестая нота в гамме до-мажор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Управляющая кнопка: далее 8">
            <a:hlinkClick r:id="rId1" action="ppaction://hlinksldjump"/>
          </p:cNvPr>
          <p:cNvSpPr/>
          <p:nvPr/>
        </p:nvSpPr>
        <p:spPr>
          <a:xfrm>
            <a:off x="3059280" y="2492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Управляющая кнопка: далее 9">
            <a:hlinkClick r:id="rId2" action="ppaction://hlinksldjump"/>
          </p:cNvPr>
          <p:cNvSpPr/>
          <p:nvPr/>
        </p:nvSpPr>
        <p:spPr>
          <a:xfrm>
            <a:off x="3059280" y="357336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Управляющая кнопка: далее 11">
            <a:hlinkClick r:id="rId3" action="ppaction://hlinksldjump"/>
          </p:cNvPr>
          <p:cNvSpPr/>
          <p:nvPr/>
        </p:nvSpPr>
        <p:spPr>
          <a:xfrm>
            <a:off x="3059280" y="465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4aa3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7740720" y="551664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3808"/>
                </a:moveTo>
                <a:lnTo>
                  <a:pt x="17806" y="10815"/>
                </a:lnTo>
                <a:lnTo>
                  <a:pt x="3794" y="17821"/>
                </a:lnTo>
                <a:close/>
              </a:path>
            </a:pathLst>
          </a:custGeom>
          <a:solidFill>
            <a:srgbClr val="a9d7e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УМАЙ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Облако 3"/>
          <p:cNvSpPr/>
          <p:nvPr/>
        </p:nvSpPr>
        <p:spPr>
          <a:xfrm>
            <a:off x="4211640" y="1628640"/>
            <a:ext cx="2592360" cy="2448000"/>
          </a:xfrm>
          <a:custGeom>
            <a:avLst/>
            <a:gdLst>
              <a:gd name="textAreaLeft" fmla="*/ 357120 w 2592360"/>
              <a:gd name="textAreaRight" fmla="*/ 2050920 w 2592360"/>
              <a:gd name="textAreaTop" fmla="*/ 369720 h 2448000"/>
              <a:gd name="textAreaBottom" fmla="*/ 1964880 h 2448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b0bad7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812000" y="508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eba7a8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92" name="Солнце 5"/>
          <p:cNvGrpSpPr/>
          <p:nvPr/>
        </p:nvGrpSpPr>
        <p:grpSpPr>
          <a:xfrm>
            <a:off x="3267000" y="1500120"/>
            <a:ext cx="3090960" cy="2968560"/>
            <a:chOff x="3267000" y="1500120"/>
            <a:chExt cx="3090960" cy="2968560"/>
          </a:xfrm>
        </p:grpSpPr>
        <p:pic>
          <p:nvPicPr>
            <p:cNvPr id="493" name="Солнце 5" descr=""/>
            <p:cNvPicPr/>
            <p:nvPr/>
          </p:nvPicPr>
          <p:blipFill>
            <a:blip r:embed="rId1"/>
            <a:stretch/>
          </p:blipFill>
          <p:spPr>
            <a:xfrm>
              <a:off x="3267000" y="1500120"/>
              <a:ext cx="309096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4295880" y="2465280"/>
              <a:ext cx="103500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Управляющая кнопка: далее 6"/>
          <p:cNvGrpSpPr/>
          <p:nvPr/>
        </p:nvGrpSpPr>
        <p:grpSpPr>
          <a:xfrm>
            <a:off x="7662960" y="4956120"/>
            <a:ext cx="1199880" cy="1200240"/>
            <a:chOff x="7662960" y="4956120"/>
            <a:chExt cx="1199880" cy="1200240"/>
          </a:xfrm>
        </p:grpSpPr>
        <p:pic>
          <p:nvPicPr>
            <p:cNvPr id="496" name="Управляющая кнопка: далее 6" descr=""/>
            <p:cNvPicPr/>
            <p:nvPr/>
          </p:nvPicPr>
          <p:blipFill>
            <a:blip r:embed="rId2"/>
            <a:stretch/>
          </p:blipFill>
          <p:spPr>
            <a:xfrm>
              <a:off x="7662960" y="4956120"/>
              <a:ext cx="119988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7740720" y="5013360"/>
              <a:ext cx="104148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6db2c9"/>
                </a:solidFill>
                <a:latin typeface="Corbel"/>
              </a:rPr>
              <a:t>Как называется в музыке громкое звучание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402920" y="13410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ИА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ГАТ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Т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Управляющая кнопка: далее 8"/>
          <p:cNvSpPr/>
          <p:nvPr/>
        </p:nvSpPr>
        <p:spPr>
          <a:xfrm>
            <a:off x="3924360" y="2565360"/>
            <a:ext cx="1041480" cy="10414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Управляющая кнопка: далее 9"/>
          <p:cNvSpPr/>
          <p:nvPr/>
        </p:nvSpPr>
        <p:spPr>
          <a:xfrm>
            <a:off x="3924360" y="364500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3808"/>
                </a:moveTo>
                <a:lnTo>
                  <a:pt x="17806" y="10815"/>
                </a:lnTo>
                <a:lnTo>
                  <a:pt x="3794" y="17821"/>
                </a:lnTo>
                <a:close/>
              </a:path>
            </a:pathLst>
          </a:cu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Управляющая кнопка: далее 10"/>
          <p:cNvSpPr/>
          <p:nvPr/>
        </p:nvSpPr>
        <p:spPr>
          <a:xfrm>
            <a:off x="3924360" y="4724280"/>
            <a:ext cx="1041480" cy="10432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3812"/>
                </a:moveTo>
                <a:lnTo>
                  <a:pt x="17806" y="10819"/>
                </a:lnTo>
                <a:lnTo>
                  <a:pt x="3794" y="17825"/>
                </a:lnTo>
                <a:close/>
              </a:path>
            </a:pathLst>
          </a:custGeom>
          <a:solidFill>
            <a:srgbClr val="84aa3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Управляющая кнопка: далее 12"/>
          <p:cNvGrpSpPr/>
          <p:nvPr/>
        </p:nvGrpSpPr>
        <p:grpSpPr>
          <a:xfrm>
            <a:off x="7875720" y="5608800"/>
            <a:ext cx="1201680" cy="1199880"/>
            <a:chOff x="7875720" y="5608800"/>
            <a:chExt cx="1201680" cy="1199880"/>
          </a:xfrm>
        </p:grpSpPr>
        <p:pic>
          <p:nvPicPr>
            <p:cNvPr id="504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875720" y="5608800"/>
              <a:ext cx="120168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956720" y="566100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УМАЙ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Облако 3"/>
          <p:cNvSpPr/>
          <p:nvPr/>
        </p:nvSpPr>
        <p:spPr>
          <a:xfrm>
            <a:off x="4211640" y="1628640"/>
            <a:ext cx="2592360" cy="2448000"/>
          </a:xfrm>
          <a:custGeom>
            <a:avLst/>
            <a:gdLst>
              <a:gd name="textAreaLeft" fmla="*/ 357120 w 2592360"/>
              <a:gd name="textAreaRight" fmla="*/ 2050920 w 2592360"/>
              <a:gd name="textAreaTop" fmla="*/ 369720 h 2448000"/>
              <a:gd name="textAreaBottom" fmla="*/ 1964880 h 2448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8898c3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Управляющая кнопка: назад 6"/>
          <p:cNvGrpSpPr/>
          <p:nvPr/>
        </p:nvGrpSpPr>
        <p:grpSpPr>
          <a:xfrm>
            <a:off x="7589880" y="5102280"/>
            <a:ext cx="1200240" cy="1201680"/>
            <a:chOff x="7589880" y="5102280"/>
            <a:chExt cx="1200240" cy="1201680"/>
          </a:xfrm>
        </p:grpSpPr>
        <p:pic>
          <p:nvPicPr>
            <p:cNvPr id="510" name="Управляющая кнопка: назад 6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589880" y="5102280"/>
              <a:ext cx="120024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667640" y="5157720"/>
              <a:ext cx="104292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Солнце 5"/>
          <p:cNvSpPr/>
          <p:nvPr/>
        </p:nvSpPr>
        <p:spPr>
          <a:xfrm>
            <a:off x="3348000" y="1557360"/>
            <a:ext cx="2930400" cy="2808360"/>
          </a:xfrm>
          <a:prstGeom prst="sun">
            <a:avLst>
              <a:gd name="adj" fmla="val 25000"/>
            </a:avLst>
          </a:pr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Управляющая кнопка: далее 6"/>
          <p:cNvGrpSpPr/>
          <p:nvPr/>
        </p:nvGrpSpPr>
        <p:grpSpPr>
          <a:xfrm>
            <a:off x="7662960" y="5029200"/>
            <a:ext cx="1199880" cy="1200240"/>
            <a:chOff x="7662960" y="5029200"/>
            <a:chExt cx="1199880" cy="1200240"/>
          </a:xfrm>
        </p:grpSpPr>
        <p:pic>
          <p:nvPicPr>
            <p:cNvPr id="516" name="Управляющая кнопка: далее 6" descr=""/>
            <p:cNvPicPr/>
            <p:nvPr/>
          </p:nvPicPr>
          <p:blipFill>
            <a:blip r:embed="rId1"/>
            <a:stretch/>
          </p:blipFill>
          <p:spPr>
            <a:xfrm>
              <a:off x="7662960" y="5029200"/>
              <a:ext cx="119988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7740720" y="5084640"/>
              <a:ext cx="1041480" cy="10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УМАЙ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920"/>
            <a:ext cx="749952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Облако 3"/>
          <p:cNvSpPr/>
          <p:nvPr/>
        </p:nvSpPr>
        <p:spPr>
          <a:xfrm>
            <a:off x="4211640" y="1628640"/>
            <a:ext cx="2592360" cy="2448000"/>
          </a:xfrm>
          <a:custGeom>
            <a:avLst/>
            <a:gdLst>
              <a:gd name="textAreaLeft" fmla="*/ 357120 w 2592360"/>
              <a:gd name="textAreaRight" fmla="*/ 2050920 w 2592360"/>
              <a:gd name="textAreaTop" fmla="*/ 369720 h 2448000"/>
              <a:gd name="textAreaBottom" fmla="*/ 1964880 h 2448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7740720" y="5445000"/>
            <a:ext cx="1041480" cy="10432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10819"/>
                </a:moveTo>
                <a:lnTo>
                  <a:pt x="17806" y="3812"/>
                </a:lnTo>
                <a:lnTo>
                  <a:pt x="17806" y="17825"/>
                </a:lnTo>
                <a:close/>
              </a:path>
            </a:pathLst>
          </a:custGeom>
          <a:solidFill>
            <a:srgbClr val="eba7a8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-171360"/>
            <a:ext cx="749952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 u="sng">
              <a:solidFill>
                <a:srgbClr val="000000"/>
              </a:solidFill>
              <a:uFillTx/>
              <a:latin typeface="Corbe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434960" y="836280"/>
            <a:ext cx="7499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6d7d"/>
                </a:solidFill>
                <a:latin typeface="Corbel"/>
              </a:rPr>
              <a:t>Разгадай кроссворд с названиями нот н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6d7d"/>
                </a:solidFill>
                <a:latin typeface="Corbel"/>
              </a:rPr>
              <a:t>слово «МЕЛОДИКА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Прямоугольник 3"/>
          <p:cNvSpPr/>
          <p:nvPr/>
        </p:nvSpPr>
        <p:spPr>
          <a:xfrm>
            <a:off x="3708360" y="2060640"/>
            <a:ext cx="914400" cy="504720"/>
          </a:xfrm>
          <a:prstGeom prst="rect">
            <a:avLst/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4"/>
          <p:cNvSpPr/>
          <p:nvPr/>
        </p:nvSpPr>
        <p:spPr>
          <a:xfrm>
            <a:off x="3708360" y="2565360"/>
            <a:ext cx="914400" cy="503280"/>
          </a:xfrm>
          <a:prstGeom prst="rect">
            <a:avLst/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5"/>
          <p:cNvSpPr/>
          <p:nvPr/>
        </p:nvSpPr>
        <p:spPr>
          <a:xfrm>
            <a:off x="3708360" y="3068640"/>
            <a:ext cx="914400" cy="504720"/>
          </a:xfrm>
          <a:prstGeom prst="rect">
            <a:avLst/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6"/>
          <p:cNvSpPr/>
          <p:nvPr/>
        </p:nvSpPr>
        <p:spPr>
          <a:xfrm>
            <a:off x="3708360" y="3573360"/>
            <a:ext cx="914400" cy="503280"/>
          </a:xfrm>
          <a:prstGeom prst="rect">
            <a:avLst/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7"/>
          <p:cNvSpPr/>
          <p:nvPr/>
        </p:nvSpPr>
        <p:spPr>
          <a:xfrm>
            <a:off x="3708360" y="4076640"/>
            <a:ext cx="914400" cy="576360"/>
          </a:xfrm>
          <a:prstGeom prst="rect">
            <a:avLst/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8"/>
          <p:cNvSpPr/>
          <p:nvPr/>
        </p:nvSpPr>
        <p:spPr>
          <a:xfrm>
            <a:off x="3708360" y="4581360"/>
            <a:ext cx="914400" cy="503280"/>
          </a:xfrm>
          <a:prstGeom prst="rect">
            <a:avLst/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9"/>
          <p:cNvSpPr/>
          <p:nvPr/>
        </p:nvSpPr>
        <p:spPr>
          <a:xfrm>
            <a:off x="3708360" y="5084640"/>
            <a:ext cx="914400" cy="505080"/>
          </a:xfrm>
          <a:prstGeom prst="rect">
            <a:avLst/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10"/>
          <p:cNvSpPr/>
          <p:nvPr/>
        </p:nvSpPr>
        <p:spPr>
          <a:xfrm>
            <a:off x="3708360" y="5589720"/>
            <a:ext cx="914400" cy="503280"/>
          </a:xfrm>
          <a:prstGeom prst="rect">
            <a:avLst/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11"/>
          <p:cNvSpPr/>
          <p:nvPr/>
        </p:nvSpPr>
        <p:spPr>
          <a:xfrm>
            <a:off x="4643280" y="2060640"/>
            <a:ext cx="8654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12"/>
          <p:cNvSpPr/>
          <p:nvPr/>
        </p:nvSpPr>
        <p:spPr>
          <a:xfrm>
            <a:off x="2843280" y="2565360"/>
            <a:ext cx="8650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13"/>
          <p:cNvSpPr/>
          <p:nvPr/>
        </p:nvSpPr>
        <p:spPr>
          <a:xfrm>
            <a:off x="4643280" y="3068640"/>
            <a:ext cx="8654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14"/>
          <p:cNvSpPr/>
          <p:nvPr/>
        </p:nvSpPr>
        <p:spPr>
          <a:xfrm>
            <a:off x="2843280" y="3573360"/>
            <a:ext cx="8650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15"/>
          <p:cNvSpPr/>
          <p:nvPr/>
        </p:nvSpPr>
        <p:spPr>
          <a:xfrm>
            <a:off x="4643280" y="3573360"/>
            <a:ext cx="8654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16"/>
          <p:cNvSpPr/>
          <p:nvPr/>
        </p:nvSpPr>
        <p:spPr>
          <a:xfrm>
            <a:off x="5508720" y="3573360"/>
            <a:ext cx="863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17"/>
          <p:cNvSpPr/>
          <p:nvPr/>
        </p:nvSpPr>
        <p:spPr>
          <a:xfrm>
            <a:off x="4643280" y="4076640"/>
            <a:ext cx="8654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18"/>
          <p:cNvSpPr/>
          <p:nvPr/>
        </p:nvSpPr>
        <p:spPr>
          <a:xfrm>
            <a:off x="2843280" y="4581360"/>
            <a:ext cx="8650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19"/>
          <p:cNvSpPr/>
          <p:nvPr/>
        </p:nvSpPr>
        <p:spPr>
          <a:xfrm>
            <a:off x="4643280" y="5084640"/>
            <a:ext cx="86544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20"/>
          <p:cNvSpPr/>
          <p:nvPr/>
        </p:nvSpPr>
        <p:spPr>
          <a:xfrm>
            <a:off x="5508720" y="5084640"/>
            <a:ext cx="86364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21"/>
          <p:cNvSpPr/>
          <p:nvPr/>
        </p:nvSpPr>
        <p:spPr>
          <a:xfrm>
            <a:off x="6372360" y="5084640"/>
            <a:ext cx="86364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22"/>
          <p:cNvSpPr/>
          <p:nvPr/>
        </p:nvSpPr>
        <p:spPr>
          <a:xfrm>
            <a:off x="2843280" y="5589720"/>
            <a:ext cx="8650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Управляющая кнопка: далее 23"/>
          <p:cNvGrpSpPr/>
          <p:nvPr/>
        </p:nvGrpSpPr>
        <p:grpSpPr>
          <a:xfrm>
            <a:off x="7802640" y="5535720"/>
            <a:ext cx="1201680" cy="1199880"/>
            <a:chOff x="7802640" y="5535720"/>
            <a:chExt cx="1201680" cy="1199880"/>
          </a:xfrm>
        </p:grpSpPr>
        <p:pic>
          <p:nvPicPr>
            <p:cNvPr id="541" name="Управляющая кнопка: далее 2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802640" y="5535720"/>
              <a:ext cx="120168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7885080" y="5589720"/>
              <a:ext cx="104148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sp>
        <p:nvSpPr>
          <p:cNvPr id="545" name="Солнце 3"/>
          <p:cNvSpPr/>
          <p:nvPr/>
        </p:nvSpPr>
        <p:spPr>
          <a:xfrm>
            <a:off x="5219640" y="2708280"/>
            <a:ext cx="46080" cy="46080"/>
          </a:xfrm>
          <a:prstGeom prst="sun">
            <a:avLst>
              <a:gd name="adj" fmla="val 25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Солнце 4"/>
          <p:cNvSpPr/>
          <p:nvPr/>
        </p:nvSpPr>
        <p:spPr>
          <a:xfrm>
            <a:off x="3995640" y="1413000"/>
            <a:ext cx="2570400" cy="2354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0720" y="5084640"/>
            <a:ext cx="1041480" cy="10432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3812"/>
                </a:moveTo>
                <a:lnTo>
                  <a:pt x="17806" y="10819"/>
                </a:lnTo>
                <a:lnTo>
                  <a:pt x="3794" y="17825"/>
                </a:lnTo>
                <a:close/>
              </a:path>
            </a:pathLst>
          </a:custGeom>
          <a:solidFill>
            <a:srgbClr val="eaccc3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9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6db2c9"/>
                </a:solidFill>
                <a:latin typeface="Corbel"/>
              </a:rPr>
              <a:t>Как называется скорость движения в музыке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МБР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ИЕ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МП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Управляющая кнопка: далее 8"/>
          <p:cNvSpPr/>
          <p:nvPr/>
        </p:nvSpPr>
        <p:spPr>
          <a:xfrm>
            <a:off x="4356000" y="2492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Управляющая кнопка: далее 9"/>
          <p:cNvSpPr/>
          <p:nvPr/>
        </p:nvSpPr>
        <p:spPr>
          <a:xfrm>
            <a:off x="4356000" y="3500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Управляющая кнопка: далее 10"/>
          <p:cNvSpPr/>
          <p:nvPr/>
        </p:nvSpPr>
        <p:spPr>
          <a:xfrm>
            <a:off x="4356000" y="4508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4aa3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885080" y="551664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3808"/>
                </a:moveTo>
                <a:lnTo>
                  <a:pt x="17806" y="10815"/>
                </a:lnTo>
                <a:lnTo>
                  <a:pt x="3794" y="17821"/>
                </a:lnTo>
                <a:close/>
              </a:path>
            </a:pathLst>
          </a:custGeom>
          <a:solidFill>
            <a:srgbClr val="b0bad7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УМАЙ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Облако 3"/>
          <p:cNvSpPr/>
          <p:nvPr/>
        </p:nvSpPr>
        <p:spPr>
          <a:xfrm>
            <a:off x="3419640" y="1628640"/>
            <a:ext cx="3384360" cy="2448000"/>
          </a:xfrm>
          <a:custGeom>
            <a:avLst/>
            <a:gdLst>
              <a:gd name="textAreaLeft" fmla="*/ 466200 w 3384360"/>
              <a:gd name="textAreaRight" fmla="*/ 2677320 w 3384360"/>
              <a:gd name="textAreaTop" fmla="*/ 369720 h 2448000"/>
              <a:gd name="textAreaBottom" fmla="*/ 1964880 h 2448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a9d7e2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885080" y="5157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10800"/>
                </a:moveTo>
                <a:lnTo>
                  <a:pt x="17821" y="3794"/>
                </a:lnTo>
                <a:lnTo>
                  <a:pt x="17821" y="17806"/>
                </a:lnTo>
                <a:close/>
              </a:path>
            </a:pathLst>
          </a:custGeom>
          <a:solidFill>
            <a:srgbClr val="eba7a8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Солнце 5"/>
          <p:cNvSpPr/>
          <p:nvPr/>
        </p:nvSpPr>
        <p:spPr>
          <a:xfrm>
            <a:off x="3348000" y="1557360"/>
            <a:ext cx="2930400" cy="2808360"/>
          </a:xfrm>
          <a:prstGeom prst="sun">
            <a:avLst>
              <a:gd name="adj" fmla="val 25000"/>
            </a:avLst>
          </a:prstGeom>
          <a:solidFill>
            <a:srgbClr val="faae76"/>
          </a:solidFill>
          <a:ln w="25560">
            <a:solidFill>
              <a:srgbClr val="bb8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Управляющая кнопка: далее 6"/>
          <p:cNvSpPr/>
          <p:nvPr/>
        </p:nvSpPr>
        <p:spPr>
          <a:xfrm>
            <a:off x="7812000" y="5157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a9d7e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ЗДРАВЛЯЮ!!!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solidFill>
            <a:srgbClr val="e8f2d3"/>
          </a:solidFill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ТЫ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РАВИЛЬН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ЫПОЛНИЛ (А)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СЕ  ТВОРЧЕСКИЕ ЗАДАНИЯ!!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Улыбающееся лицо 3"/>
          <p:cNvSpPr/>
          <p:nvPr/>
        </p:nvSpPr>
        <p:spPr>
          <a:xfrm>
            <a:off x="1979640" y="177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Улыбающееся лицо 5"/>
          <p:cNvSpPr/>
          <p:nvPr/>
        </p:nvSpPr>
        <p:spPr>
          <a:xfrm>
            <a:off x="4932360" y="4797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Улыбающееся лицо 6"/>
          <p:cNvSpPr/>
          <p:nvPr/>
        </p:nvSpPr>
        <p:spPr>
          <a:xfrm>
            <a:off x="7451640" y="1844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75a8d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Солнце 5"/>
          <p:cNvSpPr/>
          <p:nvPr/>
        </p:nvSpPr>
        <p:spPr>
          <a:xfrm>
            <a:off x="3851280" y="1484280"/>
            <a:ext cx="2930400" cy="280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bb8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Управляющая кнопка: далее 7">
            <a:hlinkClick r:id="rId1" action="ppaction://hlinksldjump"/>
          </p:cNvPr>
          <p:cNvSpPr/>
          <p:nvPr/>
        </p:nvSpPr>
        <p:spPr>
          <a:xfrm>
            <a:off x="7740720" y="5084640"/>
            <a:ext cx="1041480" cy="10432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3812"/>
                </a:moveTo>
                <a:lnTo>
                  <a:pt x="17806" y="10819"/>
                </a:lnTo>
                <a:lnTo>
                  <a:pt x="3794" y="17825"/>
                </a:lnTo>
                <a:close/>
              </a:path>
            </a:pathLst>
          </a:custGeom>
          <a:solidFill>
            <a:srgbClr val="84aa3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6db2c9"/>
                </a:solidFill>
                <a:latin typeface="Corbel"/>
              </a:rPr>
              <a:t>Сколько строчек имеет нотный стан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Управляющая кнопка: далее 10">
            <a:hlinkClick r:id="rId1" action="ppaction://hlinksldjump"/>
          </p:cNvPr>
          <p:cNvSpPr/>
          <p:nvPr/>
        </p:nvSpPr>
        <p:spPr>
          <a:xfrm>
            <a:off x="2700360" y="2565360"/>
            <a:ext cx="1041480" cy="10414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Управляющая кнопка: далее 13">
            <a:hlinkClick r:id="rId2" action="ppaction://hlinksldjump"/>
          </p:cNvPr>
          <p:cNvSpPr/>
          <p:nvPr/>
        </p:nvSpPr>
        <p:spPr>
          <a:xfrm>
            <a:off x="2700360" y="364500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3808"/>
                </a:moveTo>
                <a:lnTo>
                  <a:pt x="17806" y="10815"/>
                </a:lnTo>
                <a:lnTo>
                  <a:pt x="3794" y="17821"/>
                </a:lnTo>
                <a:close/>
              </a:path>
            </a:pathLst>
          </a:cu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Управляющая кнопка: далее 14">
            <a:hlinkClick r:id="rId3" action="ppaction://hlinksldjump"/>
          </p:cNvPr>
          <p:cNvSpPr/>
          <p:nvPr/>
        </p:nvSpPr>
        <p:spPr>
          <a:xfrm>
            <a:off x="2700360" y="4724280"/>
            <a:ext cx="1041480" cy="10432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3812"/>
                </a:moveTo>
                <a:lnTo>
                  <a:pt x="17806" y="10819"/>
                </a:lnTo>
                <a:lnTo>
                  <a:pt x="3794" y="17825"/>
                </a:lnTo>
                <a:close/>
              </a:path>
            </a:pathLst>
          </a:custGeom>
          <a:solidFill>
            <a:srgbClr val="84aa3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Управляющая кнопка: далее 16"/>
          <p:cNvGrpSpPr/>
          <p:nvPr/>
        </p:nvGrpSpPr>
        <p:grpSpPr>
          <a:xfrm>
            <a:off x="7802640" y="5535720"/>
            <a:ext cx="1201680" cy="1199880"/>
            <a:chOff x="7802640" y="5535720"/>
            <a:chExt cx="1201680" cy="1199880"/>
          </a:xfrm>
        </p:grpSpPr>
        <p:pic>
          <p:nvPicPr>
            <p:cNvPr id="358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802640" y="5535720"/>
              <a:ext cx="120168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7885080" y="558972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УМАЙ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Облако 3"/>
          <p:cNvSpPr/>
          <p:nvPr/>
        </p:nvSpPr>
        <p:spPr>
          <a:xfrm>
            <a:off x="4211640" y="1628640"/>
            <a:ext cx="2592360" cy="2448000"/>
          </a:xfrm>
          <a:custGeom>
            <a:avLst/>
            <a:gdLst>
              <a:gd name="textAreaLeft" fmla="*/ 357120 w 2592360"/>
              <a:gd name="textAreaRight" fmla="*/ 2050920 w 2592360"/>
              <a:gd name="textAreaTop" fmla="*/ 369720 h 2448000"/>
              <a:gd name="textAreaBottom" fmla="*/ 1964880 h 2448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8898c3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Управляющая кнопка: назад 6"/>
          <p:cNvGrpSpPr/>
          <p:nvPr/>
        </p:nvGrpSpPr>
        <p:grpSpPr>
          <a:xfrm>
            <a:off x="7662960" y="5175360"/>
            <a:ext cx="1199880" cy="1201680"/>
            <a:chOff x="7662960" y="5175360"/>
            <a:chExt cx="1199880" cy="1201680"/>
          </a:xfrm>
        </p:grpSpPr>
        <p:pic>
          <p:nvPicPr>
            <p:cNvPr id="364" name="Управляющая кнопка: назад 6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662960" y="5175360"/>
              <a:ext cx="11998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7740720" y="5229360"/>
              <a:ext cx="104148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68" name="Солнце 5"/>
          <p:cNvGrpSpPr/>
          <p:nvPr/>
        </p:nvGrpSpPr>
        <p:grpSpPr>
          <a:xfrm>
            <a:off x="3340080" y="1859040"/>
            <a:ext cx="3090960" cy="2968560"/>
            <a:chOff x="3340080" y="1859040"/>
            <a:chExt cx="3090960" cy="2968560"/>
          </a:xfrm>
        </p:grpSpPr>
        <p:pic>
          <p:nvPicPr>
            <p:cNvPr id="369" name="Солнце 5" descr=""/>
            <p:cNvPicPr/>
            <p:nvPr/>
          </p:nvPicPr>
          <p:blipFill>
            <a:blip r:embed="rId1"/>
            <a:stretch/>
          </p:blipFill>
          <p:spPr>
            <a:xfrm>
              <a:off x="3340080" y="1859040"/>
              <a:ext cx="309096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4367160" y="2824200"/>
              <a:ext cx="103500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Управляющая кнопка: далее 6"/>
          <p:cNvGrpSpPr/>
          <p:nvPr/>
        </p:nvGrpSpPr>
        <p:grpSpPr>
          <a:xfrm>
            <a:off x="7736040" y="5248440"/>
            <a:ext cx="1195200" cy="1201680"/>
            <a:chOff x="7736040" y="5248440"/>
            <a:chExt cx="1195200" cy="1201680"/>
          </a:xfrm>
        </p:grpSpPr>
        <p:pic>
          <p:nvPicPr>
            <p:cNvPr id="372" name="Управляющая кнопка: далее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36040" y="5248440"/>
              <a:ext cx="119520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7812000" y="5300640"/>
              <a:ext cx="104148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6db2c9"/>
                </a:solidFill>
                <a:latin typeface="Corbel"/>
              </a:rPr>
              <a:t>Как называется в музыке грустный лад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03280" y="1483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ЖО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М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ИНО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Управляющая кнопка: далее 9">
            <a:hlinkClick r:id="rId1" action="ppaction://hlinksldjump"/>
          </p:cNvPr>
          <p:cNvSpPr/>
          <p:nvPr/>
        </p:nvSpPr>
        <p:spPr>
          <a:xfrm>
            <a:off x="4356000" y="242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Управляющая кнопка: далее 10">
            <a:hlinkClick r:id="rId2" action="ppaction://hlinksldjump"/>
          </p:cNvPr>
          <p:cNvSpPr/>
          <p:nvPr/>
        </p:nvSpPr>
        <p:spPr>
          <a:xfrm>
            <a:off x="4356000" y="342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Управляющая кнопка: далее 11">
            <a:hlinkClick r:id="rId3" action="ppaction://hlinksldjump"/>
          </p:cNvPr>
          <p:cNvSpPr/>
          <p:nvPr/>
        </p:nvSpPr>
        <p:spPr>
          <a:xfrm>
            <a:off x="4356000" y="4508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4aa3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Управляющая кнопка: далее 13"/>
          <p:cNvGrpSpPr/>
          <p:nvPr/>
        </p:nvGrpSpPr>
        <p:grpSpPr>
          <a:xfrm>
            <a:off x="7802640" y="5462640"/>
            <a:ext cx="1201680" cy="1200240"/>
            <a:chOff x="7802640" y="5462640"/>
            <a:chExt cx="1201680" cy="1200240"/>
          </a:xfrm>
        </p:grpSpPr>
        <p:pic>
          <p:nvPicPr>
            <p:cNvPr id="380" name="Управляющая кнопка: далее 13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802640" y="5462640"/>
              <a:ext cx="120168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7885080" y="5516640"/>
              <a:ext cx="104148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УМАЙ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Облако 3"/>
          <p:cNvSpPr/>
          <p:nvPr/>
        </p:nvSpPr>
        <p:spPr>
          <a:xfrm>
            <a:off x="4211640" y="1628640"/>
            <a:ext cx="2592360" cy="2448000"/>
          </a:xfrm>
          <a:custGeom>
            <a:avLst/>
            <a:gdLst>
              <a:gd name="textAreaLeft" fmla="*/ 357120 w 2592360"/>
              <a:gd name="textAreaRight" fmla="*/ 2050920 w 2592360"/>
              <a:gd name="textAreaTop" fmla="*/ 369720 h 2448000"/>
              <a:gd name="textAreaBottom" fmla="*/ 1964880 h 2448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8898c3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Управляющая кнопка: назад 6"/>
          <p:cNvGrpSpPr/>
          <p:nvPr/>
        </p:nvGrpSpPr>
        <p:grpSpPr>
          <a:xfrm>
            <a:off x="7736040" y="5102280"/>
            <a:ext cx="1199880" cy="1201680"/>
            <a:chOff x="7736040" y="5102280"/>
            <a:chExt cx="1199880" cy="1201680"/>
          </a:xfrm>
        </p:grpSpPr>
        <p:pic>
          <p:nvPicPr>
            <p:cNvPr id="386" name="Управляющая кнопка: назад 6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736040" y="5102280"/>
              <a:ext cx="11998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7812000" y="5157720"/>
              <a:ext cx="104292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1:12:23Z</dcterms:created>
  <dc:creator>Светлана</dc:creator>
  <dc:description/>
  <dc:language>en-US</dc:language>
  <cp:lastModifiedBy>Светлана</cp:lastModifiedBy>
  <dcterms:modified xsi:type="dcterms:W3CDTF">2020-03-23T11:48:42Z</dcterms:modified>
  <cp:revision>89</cp:revision>
  <dc:subject/>
  <dc:title>Я люблю сольфеджио</dc:title>
</cp:coreProperties>
</file>